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A26-4054-4435-A256-64137351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4F0-36F6-454E-B222-511627FF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EFA-FDFA-4A4B-9570-E7466487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0D4-AC89-465F-A4DD-B6F7B070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AF3-1E58-433D-BB36-C4B3371A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560-ECA1-409C-8A8E-957B9202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A0E-2936-452C-BBE6-0F64B799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D33-35C8-4C71-8163-7DCDBEEC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AB6-D4A6-4D01-8054-33F0DD68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8C4-6DAE-4F6C-A6CC-5E4DA3FA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B66-C3EB-4575-8409-C267C67D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CD8-B81F-4875-B705-97D2BF89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EA22-5B5D-4C4E-80C5-A2DBF93B6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Apostles’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50:20Z</dcterms:created>
  <dc:creator>Anon Anon</dc:creator>
  <dc:description/>
  <dc:language>en-US</dc:language>
  <cp:lastModifiedBy>Anon Anon</cp:lastModifiedBy>
  <dcterms:modified xsi:type="dcterms:W3CDTF">2005-08-16T04:23:30Z</dcterms:modified>
  <cp:revision>10</cp:revision>
  <dc:subject/>
  <dc:title>The Apostles’ Creed</dc:title>
</cp:coreProperties>
</file>